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76C-FF93-4D5A-B4D1-424390EB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9D5-1FFB-4DA7-AFCD-FCDF2127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365-260E-4D7D-B617-2301DAB8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B82-8EDB-4F0C-B4BB-C69A023C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6F21-5C88-477E-9845-042580A5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23BE-2174-48CE-B210-36E38B5F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AEE0-39A7-4DA7-9959-3D8F1464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13DC-B755-40C7-A08D-EDE5B5AE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202C-F17D-4248-9018-4C280AAB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FA0A-DFFF-4245-9E94-4914E6AB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064D-DBCE-4ED3-B17A-7E5B81FD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60C-703E-4B39-BE15-CC2559B1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2043-C5CE-47CF-88E1-400CCFEB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8F37-0263-4EAF-A102-1618647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64B7-37BB-45F4-9A9B-811FBB6D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FE70-9D0E-4CAD-A585-47E42B99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5F1C-3781-46A7-AC88-3F1817BA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7E4-97CC-49EA-A070-AFE9E491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F1C-BC29-43F7-B93A-9FD743C9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92A-5196-446C-9AC3-A348ED4B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DE8-CBA4-453E-83BD-2245F494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557-AA9F-42ED-9C4A-8F441C34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951-3372-4CAF-9410-7B80E7D0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53C-324F-4632-B59E-CA8B59E3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3A90-D8BE-4AE2-84C7-FA38BD8FBC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3AB7-6A8F-434E-93C4-ABBA7A2785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L DIVISION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LOPHASE: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ytokinesis begins with the appearance of a cleavage furrow.Chromatids reach the poles and nuclear membrane reform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YTOKINESIS: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division of the cytoplasm. 2 daughter cells appear. Chromosomes disappear again as interphase begins agai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MITOSI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INTERPHA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PROPHASE (root tip)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2179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53000" y="1600200"/>
            <a:ext cx="4033800" cy="21798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              and             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METAPHA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ANAPHA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217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653000" y="1600200"/>
            <a:ext cx="4033800" cy="21798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               and            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TELOPHA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 DAUGHTER CELL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 Divisio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can reproduce, that is they can produce NEW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ce, living things GR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the process by which cells re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TOSI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 controls cell div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the nucleus are CHROMOSOM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cell parts that determine what traits a living thing will h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cell division, each chromosome makes and EXACT COPY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ANIMAL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and </a:t>
            </a: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PLAN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lls have the SAME MITOSIS steps, but look differen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O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TOKI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of Cell Division is the made an identical copy of that cel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ed by the Nucleus of the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Interphase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(resting cell): nuclear membrane intact, chromosomes NOT appare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Prophas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hromatin becom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uper-coiled and compact, nucleoli disappear.  Each duplicated chromosome appears as 2 identical sister chromatids joined at the center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METAPHAS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hromosomes line up single file on the equator of the cell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173240" y="16002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ANAPHAS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ingle chromatids move towards opposite ends of the cell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2:19:07Z</dcterms:created>
  <dc:creator>System Operations</dc:creator>
  <dc:description/>
  <dc:language>en-US</dc:language>
  <cp:lastModifiedBy>Tera Linn</cp:lastModifiedBy>
  <dcterms:modified xsi:type="dcterms:W3CDTF">2011-10-20T19:24:48Z</dcterms:modified>
  <cp:revision>22</cp:revision>
  <dc:subject/>
  <dc:title>CELL DIVISION:</dc:title>
</cp:coreProperties>
</file>